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C361-AE45-4080-BDE1-4BA49E02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5DCA-D878-40F2-A946-5BF96C3B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4294-0C2F-44E6-9241-53F9BB3E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7007-5BAF-49C1-B50C-72BA5EBA8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FB44-36B6-4420-AF46-4B1CAB29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786C-C02C-4A9D-9A9A-9B6002B1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EEC4-171E-4F14-A88A-0E5F6F6A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8D57-58C0-4C60-B067-30ED2E29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2E7C-98F3-44B1-BB65-0814EB94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94C1-858E-4181-9E30-EFA0A2D1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7AE4-3643-47D6-9C15-A25320C5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921D-FD59-4D8E-804D-AE1369FD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0282-424D-4884-857C-79BDC50554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perációs rendszere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ória kezel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ugalmas partíció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egoldás az előbbi problémá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egyszerűbb címszámítás miatt célszerű a méretet 2 hatvány egész számú többszörösére választani pl. 204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belső elaprózódás helyett megjelenik a külső elaprózód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zükség van a garbage collectionra, ami a memóriában lévő folyamatokat egymás után rendez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Arial"/>
              </a:rPr>
              <a:t>Lapozás (paging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 okozta az elaprózódá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hogy a programok nem egyforma memóriaterületet igényeltek, viszont ragaszkodtunk ahhoz, hogy folytonosan helyezzük el őket a memóriáb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szuk fel a memóriát egyforma és viszonylag kisméretű egységek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zek a lap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Arial"/>
              </a:rPr>
              <a:t>Lapozás (paging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nem folytonos elhelyezkedés miatt nyilván kell tartani, hogy az egyes részek hol helyezkednek el , e célra szolgálnak a laptáblá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oprendszer minden egyes folyamat betöltésekor létrehoz a folyamat számára egy táblát, melyben a logikai lapokhoz hozzá rendeli a fizikai lapoka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Arial"/>
              </a:rPr>
              <a:t>Lapozás (paging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26920" y="2205000"/>
            <a:ext cx="187344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. l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2637000"/>
            <a:ext cx="187344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l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3068640"/>
            <a:ext cx="187344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l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3500280"/>
            <a:ext cx="187344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l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2205000"/>
            <a:ext cx="187308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637000"/>
            <a:ext cx="187308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3068640"/>
            <a:ext cx="187308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3500280"/>
            <a:ext cx="187308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2205000"/>
            <a:ext cx="358560" cy="432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2637000"/>
            <a:ext cx="358560" cy="431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068640"/>
            <a:ext cx="358560" cy="431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3500280"/>
            <a:ext cx="358560" cy="432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84720" y="2133720"/>
            <a:ext cx="360360" cy="360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2133720"/>
            <a:ext cx="2158920" cy="360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84720" y="2492280"/>
            <a:ext cx="360360" cy="360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43640" y="2492280"/>
            <a:ext cx="2158920" cy="360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84720" y="2852640"/>
            <a:ext cx="360360" cy="360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43640" y="2852640"/>
            <a:ext cx="2158920" cy="360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l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84720" y="3213000"/>
            <a:ext cx="360360" cy="360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43640" y="3213000"/>
            <a:ext cx="2158920" cy="360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84720" y="3573360"/>
            <a:ext cx="360360" cy="360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43640" y="3573360"/>
            <a:ext cx="2158920" cy="360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.l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84720" y="3933720"/>
            <a:ext cx="360360" cy="360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43640" y="3933720"/>
            <a:ext cx="2158920" cy="360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l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84720" y="4292640"/>
            <a:ext cx="360360" cy="360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43640" y="4292640"/>
            <a:ext cx="2158920" cy="360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83280" y="4653000"/>
            <a:ext cx="360360" cy="360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43640" y="4653000"/>
            <a:ext cx="2158920" cy="360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.l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443700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pokra osztott folya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4292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ptáb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4720" y="53737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pokra osztott memó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242100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00360" y="285264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00360" y="328464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71628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48360" y="2421000"/>
            <a:ext cx="936360" cy="1295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48360" y="2852640"/>
            <a:ext cx="936360" cy="1224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148360" y="2997000"/>
            <a:ext cx="936360" cy="3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8360" y="3716280"/>
            <a:ext cx="936360" cy="1152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Arial"/>
              </a:rPr>
              <a:t>Lapozás (paging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ost már csak azt kell megoldani, hogy hogyan találjuk meg a memóriában az egyes utasítások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ímszámítá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logikai címet formálisan két részre osztj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lső rész adja meg a lapszám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második rész meg a lapon belüli eltolá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együk a laptábla lapszámadik sorát, az ott található számérték megmutatja a lap fizikai kezdőcímé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hhez kell hozzáilleszteni a lapon belüli eltolás értéké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Arial"/>
              </a:rPr>
              <a:t>Lapozás (paging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2060640"/>
            <a:ext cx="2663640" cy="504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ázisregisz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3500280"/>
            <a:ext cx="433080" cy="433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3500280"/>
            <a:ext cx="1224000" cy="433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48360" y="2060640"/>
            <a:ext cx="1224000" cy="433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35280" y="3933720"/>
            <a:ext cx="433080" cy="433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68360" y="3933720"/>
            <a:ext cx="1224000" cy="433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1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35280" y="4365720"/>
            <a:ext cx="433080" cy="433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68360" y="4365720"/>
            <a:ext cx="1224000" cy="433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1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35280" y="4797360"/>
            <a:ext cx="433080" cy="433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68360" y="4797360"/>
            <a:ext cx="1224000" cy="433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1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72360" y="2060640"/>
            <a:ext cx="244764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1101011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76720" y="4365720"/>
            <a:ext cx="1224000" cy="433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1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00720" y="4365720"/>
            <a:ext cx="244800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1101011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24360" y="2060640"/>
            <a:ext cx="647640" cy="64764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36" idx="3"/>
            <a:endCxn id="149" idx="2"/>
          </p:cNvCxnSpPr>
          <p:nvPr/>
        </p:nvCxnSpPr>
        <p:spPr>
          <a:xfrm>
            <a:off x="3347640" y="2313000"/>
            <a:ext cx="577080" cy="72000"/>
          </a:xfrm>
          <a:prstGeom prst="bentConnector3">
            <a:avLst>
              <a:gd name="adj1" fmla="val 49812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1"/>
            <a:endCxn id="149" idx="6"/>
          </p:cNvCxnSpPr>
          <p:nvPr/>
        </p:nvCxnSpPr>
        <p:spPr>
          <a:xfrm flipV="1" rot="10800000">
            <a:off x="4571280" y="2277000"/>
            <a:ext cx="577080" cy="106920"/>
          </a:xfrm>
          <a:prstGeom prst="bentConnector3">
            <a:avLst>
              <a:gd name="adj1" fmla="val 49812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9" idx="4"/>
            <a:endCxn id="142" idx="1"/>
          </p:cNvCxnSpPr>
          <p:nvPr/>
        </p:nvCxnSpPr>
        <p:spPr>
          <a:xfrm rot="5400000">
            <a:off x="2103480" y="2439360"/>
            <a:ext cx="1875600" cy="2413440"/>
          </a:xfrm>
          <a:prstGeom prst="bentConnector4">
            <a:avLst>
              <a:gd name="adj1" fmla="val 20138"/>
              <a:gd name="adj2" fmla="val 109458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3" idx="3"/>
            <a:endCxn id="147" idx="1"/>
          </p:cNvCxnSpPr>
          <p:nvPr/>
        </p:nvCxnSpPr>
        <p:spPr>
          <a:xfrm>
            <a:off x="3492000" y="4582800"/>
            <a:ext cx="1585080" cy="1080"/>
          </a:xfrm>
          <a:prstGeom prst="bentConnector2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5076720" y="155736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 bites LOGIKAI c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03640" y="386064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 bites FIZIKAI c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ímszámítás péld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gyük fel hogy a logikai cím 16 bites, azaz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65536 sort címezhetünk m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gyen a lap mérete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2048 s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bből kiszámítható hogy 65536/2048 = 32 db lapunk v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az a lapok kiválasztására 5, míg a lapon belüli sor kiválasztására 11 bit k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ikai cím :00010|10110101110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apcím: 0010, eltolás 10110101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gyük fel, hogy a laptábla 00010 (=2) sorában az 10111 (=23) számérték található, azaz a keresett memóriahely fizikai címe: 10111|10110101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irtuális tárkezelé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alóságos memóriakezelésnek 3 fontosabb problémája v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ocesszor címzési kapacitása is olyan nagy, amekkorát nem akarunk kiépíteni (pl. 32 bites processzor címtartománya 4G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k folyamathoz nagyon nagy memóriára van szüksé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gy a betöltési és felfüggesztési folyamatok ide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irtuális tárkezelé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olyamatokra igaz az ún. lokalitási elv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 egy program adott pontján vagyunk, akkor nagy valószínűséggel, viszonylag hosszú ideig ennek a pontnak egy nem túl tág környezetében fogunk marad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bből következik, hogy nincs szükség a teljes programkódot mindig a memóriában tartan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apoknak egyszerre csak egy részhalmaza van bent az operatív memóriáb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Virtuális tárkezelés - címszámítás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1773360"/>
            <a:ext cx="2808360" cy="503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pszá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19640" y="1773360"/>
            <a:ext cx="2520720" cy="503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pon belüli eltol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3645000"/>
            <a:ext cx="165600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zdőcí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56000" y="3645000"/>
            <a:ext cx="165564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zérlé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59640" y="1773360"/>
            <a:ext cx="165564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59640" y="2205000"/>
            <a:ext cx="165564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59640" y="2637000"/>
            <a:ext cx="165564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59640" y="3068640"/>
            <a:ext cx="165564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59640" y="3500280"/>
            <a:ext cx="165564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659640" y="3933720"/>
            <a:ext cx="165564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659640" y="4365720"/>
            <a:ext cx="165564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59640" y="4797360"/>
            <a:ext cx="165564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59640" y="5229360"/>
            <a:ext cx="165564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59640" y="5661000"/>
            <a:ext cx="165564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4076640"/>
            <a:ext cx="165600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56000" y="4076640"/>
            <a:ext cx="165564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00000" y="4508640"/>
            <a:ext cx="165600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4508640"/>
            <a:ext cx="165564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00000" y="4941720"/>
            <a:ext cx="165600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56000" y="4941720"/>
            <a:ext cx="165564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5373720"/>
            <a:ext cx="165600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56000" y="5373720"/>
            <a:ext cx="165564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79640" y="1341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ikai c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88000" y="134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Op. memó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43280" y="2708280"/>
            <a:ext cx="505080" cy="504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63" idx="1"/>
            <a:endCxn id="179" idx="1"/>
          </p:cNvCxnSpPr>
          <p:nvPr/>
        </p:nvCxnSpPr>
        <p:spPr>
          <a:xfrm flipH="1" flipV="1" rot="10800000">
            <a:off x="610920" y="2025360"/>
            <a:ext cx="289440" cy="2699280"/>
          </a:xfrm>
          <a:prstGeom prst="bentConnector3">
            <a:avLst>
              <a:gd name="adj1" fmla="val -79078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64" idx="2"/>
            <a:endCxn id="187" idx="0"/>
          </p:cNvCxnSpPr>
          <p:nvPr/>
        </p:nvCxnSpPr>
        <p:spPr>
          <a:xfrm flipH="1" rot="16200000">
            <a:off x="4572000" y="2383920"/>
            <a:ext cx="432360" cy="216720"/>
          </a:xfrm>
          <a:prstGeom prst="bentConnector3">
            <a:avLst>
              <a:gd name="adj1" fmla="val 49583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 flipV="1">
            <a:off x="1979640" y="2924280"/>
            <a:ext cx="2663640" cy="1728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87" idx="6"/>
            <a:endCxn id="171" idx="1"/>
          </p:cNvCxnSpPr>
          <p:nvPr/>
        </p:nvCxnSpPr>
        <p:spPr>
          <a:xfrm>
            <a:off x="5148360" y="2960280"/>
            <a:ext cx="1512000" cy="756360"/>
          </a:xfrm>
          <a:prstGeom prst="bentConnector3">
            <a:avLst>
              <a:gd name="adj1" fmla="val 49988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alóságos tárkezelé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ögzített címz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Áthelyezhető címz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Átlapoló módszer (overla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Tárcsere (swapp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Állandó partíció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ugalmas partíció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Lapozás (pag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ímszámítá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logikai címet most is két részre osztju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lapszám segítségével megnézzük a laptábla megfelelő sorában a present bitet, ha azt mutatja, hogy a memóriában van, akkor hasonlóan járunk el mint az előb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a azt mutatja, hogy a lap még nincs betöltve akkor azt be kell tölteni, ez a laphi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gény szerinti lapoz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lőretekintő lapoz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pcsere algoritmuso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71640" y="2060640"/>
            <a:ext cx="2808360" cy="504720"/>
          </a:xfrm>
          <a:prstGeom prst="flowChartProcess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móriahivatkozá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19640" y="4653000"/>
            <a:ext cx="2808360" cy="504720"/>
          </a:xfrm>
          <a:prstGeom prst="flowChartProcess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p felszabadítá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5516640"/>
            <a:ext cx="2808360" cy="504720"/>
          </a:xfrm>
          <a:prstGeom prst="flowChartProcess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p betölté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19640" y="2060640"/>
            <a:ext cx="2808360" cy="504720"/>
          </a:xfrm>
          <a:prstGeom prst="flowChartProcess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iszolgálá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26920" y="3141720"/>
            <a:ext cx="3168720" cy="431640"/>
          </a:xfrm>
          <a:prstGeom prst="flowChartPreparation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móriában va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26920" y="4076640"/>
            <a:ext cx="3168720" cy="432000"/>
          </a:xfrm>
          <a:prstGeom prst="flowChartPreparation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n üres hely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95" idx="2"/>
            <a:endCxn id="199" idx="0"/>
          </p:cNvCxnSpPr>
          <p:nvPr/>
        </p:nvCxnSpPr>
        <p:spPr>
          <a:xfrm>
            <a:off x="2376000" y="2565000"/>
            <a:ext cx="35640" cy="5770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99" idx="2"/>
            <a:endCxn id="200" idx="0"/>
          </p:cNvCxnSpPr>
          <p:nvPr/>
        </p:nvCxnSpPr>
        <p:spPr>
          <a:xfrm>
            <a:off x="2410920" y="3573360"/>
            <a:ext cx="1080" cy="50400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200" idx="2"/>
            <a:endCxn id="197" idx="0"/>
          </p:cNvCxnSpPr>
          <p:nvPr/>
        </p:nvCxnSpPr>
        <p:spPr>
          <a:xfrm flipH="1">
            <a:off x="2375640" y="4508640"/>
            <a:ext cx="35640" cy="100872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9" idx="3"/>
          </p:cNvCxnSpPr>
          <p:nvPr/>
        </p:nvCxnSpPr>
        <p:spPr>
          <a:xfrm>
            <a:off x="3995640" y="3357360"/>
            <a:ext cx="2664720" cy="108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endCxn id="198" idx="2"/>
          </p:cNvCxnSpPr>
          <p:nvPr/>
        </p:nvCxnSpPr>
        <p:spPr>
          <a:xfrm flipV="1" rot="16200000">
            <a:off x="6245280" y="2943360"/>
            <a:ext cx="793080" cy="35640"/>
          </a:xfrm>
          <a:prstGeom prst="bentConnector3">
            <a:avLst>
              <a:gd name="adj1" fmla="val 49863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7" idx="2"/>
          </p:cNvCxnSpPr>
          <p:nvPr/>
        </p:nvCxnSpPr>
        <p:spPr>
          <a:xfrm flipH="1" flipV="1" rot="5400000">
            <a:off x="3186000" y="2547360"/>
            <a:ext cx="2664360" cy="4284000"/>
          </a:xfrm>
          <a:prstGeom prst="bentConnector4">
            <a:avLst>
              <a:gd name="adj1" fmla="val -8581"/>
              <a:gd name="adj2" fmla="val 149399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200" idx="3"/>
            <a:endCxn id="196" idx="0"/>
          </p:cNvCxnSpPr>
          <p:nvPr/>
        </p:nvCxnSpPr>
        <p:spPr>
          <a:xfrm>
            <a:off x="3995280" y="4292280"/>
            <a:ext cx="2629800" cy="36108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196" idx="2"/>
          </p:cNvCxnSpPr>
          <p:nvPr/>
        </p:nvCxnSpPr>
        <p:spPr>
          <a:xfrm flipV="1" rot="16200000">
            <a:off x="4445640" y="2977920"/>
            <a:ext cx="144720" cy="4214160"/>
          </a:xfrm>
          <a:prstGeom prst="bentConnector4">
            <a:avLst>
              <a:gd name="adj1" fmla="val -158603"/>
              <a:gd name="adj2" fmla="val 6664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09" name=""/>
          <p:cNvSpPr/>
          <p:nvPr/>
        </p:nvSpPr>
        <p:spPr>
          <a:xfrm>
            <a:off x="3924360" y="2997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484360" y="3716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95640" y="400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in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84360" y="4508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24000" y="1628640"/>
            <a:ext cx="576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00720" y="1484280"/>
            <a:ext cx="64764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pkiosztási elve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348000" y="2205000"/>
            <a:ext cx="2376360" cy="719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GYENLE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48000" y="3357720"/>
            <a:ext cx="2376360" cy="71892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ÁNY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48000" y="4724280"/>
            <a:ext cx="2376360" cy="719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ORITÁ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9640" y="3141720"/>
            <a:ext cx="2087640" cy="1295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zámítógép felépítéséből adódó korl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16720" y="3141720"/>
            <a:ext cx="2087640" cy="1295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memória méretéből adódó korl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627280" y="3357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&l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96000" y="3429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&l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pcsere stratégiá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imális stratég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őbb jött előbb me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régebben haszná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ásodik esé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anában nem haszná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z optimális stratégia (OPT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t a lapot kell lecserélni, amelyre a legkésőbb lesz szüksé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algoritmus nagy hibája, hogy előre kellene tudni, hogy későbbiekben milyen sorrendben fogunk a lapokra hivatkoz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yakorlatban megvalósíthatat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Arial"/>
              </a:rPr>
              <a:t>Az alábbi példa egy 9 lapos folyamatról szól az op rendszer 3 keretet biztosít. A folyamat a 6 8 3 8 6 0 3 6 3 5 3 6 sorrendben hivatkozik lapjaira, induláskor egy lap sincs bent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457200" y="1600200"/>
          <a:ext cx="8197920" cy="3557520"/>
        </p:xfrm>
        <a:graphic>
          <a:graphicData uri="http://schemas.openxmlformats.org/drawingml/2006/table">
            <a:tbl>
              <a:tblPr/>
              <a:tblGrid>
                <a:gridCol w="1378080"/>
                <a:gridCol w="568080"/>
                <a:gridCol w="568440"/>
                <a:gridCol w="568440"/>
                <a:gridCol w="568080"/>
                <a:gridCol w="568440"/>
                <a:gridCol w="568440"/>
                <a:gridCol w="568080"/>
                <a:gridCol w="568440"/>
                <a:gridCol w="568440"/>
                <a:gridCol w="568080"/>
                <a:gridCol w="568440"/>
                <a:gridCol w="56844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ényelt l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l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l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l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lőbb jött, előbb megy - FIF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t a lapot kell lecserélni, amely legrégebben van bent a memóriáb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egközelítőleg olyan hatékony mint az optimál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inden frissen behozott lap sorszáma bekerül a FIFO sor végére, ezáltal a már bentlévő lapsorszámok eggyel előre lépnek, és a sor másik végén kipotyog a legrégebbi lap sorszá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lőbb jött, előbb megy - FIF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1382760"/>
                <a:gridCol w="571320"/>
                <a:gridCol w="569880"/>
                <a:gridCol w="571680"/>
                <a:gridCol w="569880"/>
                <a:gridCol w="569880"/>
                <a:gridCol w="571680"/>
                <a:gridCol w="569880"/>
                <a:gridCol w="569880"/>
                <a:gridCol w="571320"/>
                <a:gridCol w="569880"/>
                <a:gridCol w="571680"/>
                <a:gridCol w="56988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ényelt l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l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l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l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egrégebben használt - LR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t a lapot kell lecserélni, amelyre legrégebben hivatkozott a folya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zükséges hardver támogatás kell a nyilvántartásho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vés laphibát eredményez, de nagy adminisztrációs terh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egrégebben használt - LR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1382760"/>
                <a:gridCol w="571320"/>
                <a:gridCol w="569880"/>
                <a:gridCol w="571680"/>
                <a:gridCol w="569880"/>
                <a:gridCol w="569880"/>
                <a:gridCol w="571680"/>
                <a:gridCol w="569880"/>
                <a:gridCol w="569880"/>
                <a:gridCol w="571320"/>
                <a:gridCol w="569880"/>
                <a:gridCol w="571680"/>
                <a:gridCol w="56988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ényelt l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l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l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l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Arial"/>
              </a:rPr>
              <a:t>Rögzitett címzé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míg egy számítógépen csak egy felhasználó dolgozhatott és csak egyetlen kicsi programot futtathatott, a memória kezelés nem volt g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oprendszer állandó területen helyezkedett el a program meg használhatta a maradék memóriá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árvédelem: azt kell figyelni, hogy egy adott, az ún. határregiszterben tárolt címnél kisebbet a felhasználói program ne érhessen 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cc00"/>
                </a:solidFill>
                <a:latin typeface="Arial"/>
              </a:rPr>
              <a:t>Második esély (Second Chance – SC)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eljárás a FIFO elven alapul, egy kis kiegészítéss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inden laphoz helyezzünk el egy ún. hivatkozás bitet, amelyet ha a lapot használjuk, automatikusan 1-esbe állítun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Laphiba esetén ha a sor elején lévő lap hiv. bitje 1 akkr tegyük a sor végére 0 –ás bittel, és dobjuk ki a következő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ostanában nem használ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LRU módszer enyhített, könnyebben megvalósítható változ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pcsere esetén, ha lehetséges akkor azok közül kell választani, melyek a használt bitje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perációs rendszere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árvédelem, szegmentál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árvédelem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rogramozott környezetben szükség van arra, hogy az egyes folyamatok egymás memória területeit ne zavarják, még hiba esetén s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zükség van egy jól működő védelmi rendszer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se jó , ha teljesen el vannak szeparálva egymástól a folyamatok, mert akkor nem tudnak együttműködni , adatot cserél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árvédele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védelmi rendszernek meg kell akadályoznia a rosszakaratú hozzáférése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védelemnek 3 szintjét szoktuk megkülönböztetn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édeni kell egy folyamat logikai egységeit egymástó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édeni kell a felhasználói folyamatokat egymástól, de biztosítani kell közöttük az igényelt kommunikáció lehetőségé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édeni kell az operációs rendszert a felhasználói folyamatoktó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A folyamatok logikai egységeinek védelme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pikus programhiba, amikor rosszul használják a veremtárat (több be, mint k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 másik veszélyes helyzet, ha ugróutasításban rossz címet adunk meg és az adatokat kezdjük el végrehajtani. Ennek fordítottja is ross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A folyamatok logikai egységeinek védelme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Hogyan lehet védekezni elle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programok szegmentálásá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egyen kódszegmens az utasítások számá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egyen 1 vagy több adatszegmens és egy stackszegm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ondjuk meg az oprendszernek, hogy milyen szegmenseink vannak és kérjük meg, hogy ellenőrizze menet közben, hogy szegmensen belül maradunk-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A folyamatok logikai egységeinek védelme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operációs rendszer felé támasztott követelmény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definiált szegmensek ismerete (hol vannak, típusuk, méretü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yilvántartáshoz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zegmensleíró táb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onló a laptáblához, annyi sora van ahány szegmenset definiált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den sor tartalmazza a kezdőcímet, a hosszt, a típust és néhány védelmi bit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olyamatok védelme egymástó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g kell védenünk a folyamatok memória területeit, de biztosítanunk kell a szükséges folyamatközti kommunikációt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goldá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 egy darab szegmensleíró táblánk legyen, hanem folyamatonként legyen egy-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ár csak a kommunikációt kell megolda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áljuk közös területre a két folyamat adatszegmensét , és akkor ők tudnak kommunikálni egymáss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olyamatok védelme egymástó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operációs rendszer szolgáltatásait, használják a felhasználói folyamat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zért létrehoznak egy közös ún. globális leíró táblát (GDT) a lokális leírótáblán felül (LD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éha a megszakítási rutinok számára is külön táblát hoznak létre (ID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Áthelyezhető címzé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első korlát, amibe az előző címzés ütközött, az volt, hogy az oprendszer mérete nem volt álland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miatt kezdetben állandóan módosítani kellett a programozónak a programjaik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egoldás egyszerű: nem követlen fizikai címeket generált a program, hanem relatív címe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ámogatásához találták ki az ún. bázisregiszt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 regiszter tartalmazta a program kezdő címét a báziscím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Az operációs rendszer védelme - prioritások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operációs rendszer is 1 vagy több folyamat, így az előző módszerrel megoldható az Ő védelme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a rendszer folyamatoknak biztosítani kell speciális jogokat is, pl. tudja módosítani más folyamatok leírótáblájá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goldás: minden folyamathoz egy prioritási szintet kell rendel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áblát módosítani kell egy új mezővel, hogy legalább milyen prioritási szinttel kell rendelkeznie, hogy egy adott szegmens használ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ímszámítás gyorsítása szegmentálással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szegmentálás bevezetésével hasonló probléma merül fel mint a lapozásná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az a memória hozzáférési ideje a legalább a kétszeresére n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ivel a szegmensek logikailag összetartozó dolgokat tartalmaznak, ezért itt a lokalitási elv sokkal erőseb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ell egy kódszegmens regiszter amelyben az éppen futó folyamat kódszegmensének az adatai vannak(kezdőcím,hossz,védelmi bite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gy stack szegmens regiszter és 1 vagy néhány (2 vagy 4) adatszegmens regisz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ímszámítás gyorsítása szegmentálással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címszámításnál hasonlóan járunk el mint a lapozásná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Párhuzamosan elkezdjük a címszámítást a leírótáblán keresztül, illetve megnézzük a hozzá tartozó szegmensregisztere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szegmensen belüli szoros logikai összetartozás miatt a találati arány gyakorlatilag 100% 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Összetett memóriakezelé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yakorlatban a szegmentálást és a lapszervezésű virtuális tárkezelést együttesen alkalmazzá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ocesszor által kiadott logikai cím előbb a szegmentáló egységbe kerül, majd ha engedélyezett akkor a szegmensfordítás kimenete lesz a lapozó egység bemen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z a lineáris cím, végül a lapozó egység kimenete adja meg a keresett fizikai cím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 már a processzorokban egy komplett vezérlő egység is megtalálható (MM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Arial"/>
              </a:rPr>
              <a:t>Gyorstárak – cache memóriá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emória hozzáférést tovább lehet gyorsítani úgy, hogy a proc és az operatív memória közé egy viszonylag kis méretű, de nagyon gyors tárat teszü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ndig a memória legutoljára használt részeinek és környezetének másolatát tartalmaz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vezérlése hasonló az operatív tér és a virtuális memória viszony vezérléséhe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Gyorsítótár-elv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leggyakrabban használt adatok legyenek a leghamarabb elérhető hely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Áthelyezhető címzé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24360" y="2060640"/>
            <a:ext cx="1943280" cy="35290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mór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24360" y="4221000"/>
            <a:ext cx="1943280" cy="7207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2060640"/>
            <a:ext cx="1943280" cy="720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ázisregiszt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4365720"/>
            <a:ext cx="1943280" cy="720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ikai c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64000" y="3141720"/>
            <a:ext cx="936720" cy="9349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3"/>
            <a:endCxn id="54" idx="0"/>
          </p:cNvCxnSpPr>
          <p:nvPr/>
        </p:nvCxnSpPr>
        <p:spPr>
          <a:xfrm>
            <a:off x="3058920" y="2421000"/>
            <a:ext cx="973800" cy="72144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53" idx="3"/>
            <a:endCxn id="54" idx="4"/>
          </p:cNvCxnSpPr>
          <p:nvPr/>
        </p:nvCxnSpPr>
        <p:spPr>
          <a:xfrm flipV="1">
            <a:off x="3058920" y="4076280"/>
            <a:ext cx="973800" cy="65016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4" idx="6"/>
            <a:endCxn id="51" idx="1"/>
          </p:cNvCxnSpPr>
          <p:nvPr/>
        </p:nvCxnSpPr>
        <p:spPr>
          <a:xfrm>
            <a:off x="4500360" y="3610080"/>
            <a:ext cx="1224360" cy="972000"/>
          </a:xfrm>
          <a:prstGeom prst="bentConnector3">
            <a:avLst>
              <a:gd name="adj1" fmla="val 49911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40360" y="4869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zikai c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Arial"/>
              </a:rPr>
              <a:t>Átlapoló módszer (overlay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eddigi programok kicsik voltak és teljes egészükben befértek a memóriá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nagyobb programok használatához úgy kellett a feladatokat szervezni, hogy olyan blokkokból álljon melyek elférnek a memóriáb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ilyen programokhoz az oprendszer semmiféle támogatást nem ado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háttértár először vesz rész a program futásában aktív szereplőké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Arial"/>
              </a:rPr>
              <a:t>Átlapoló módszer (overlay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5013360"/>
            <a:ext cx="1513080" cy="865080"/>
          </a:xfrm>
          <a:prstGeom prst="ca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5300640"/>
            <a:ext cx="1513080" cy="865080"/>
          </a:xfrm>
          <a:prstGeom prst="ca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5805360"/>
            <a:ext cx="1513080" cy="719280"/>
          </a:xfrm>
          <a:prstGeom prst="ca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2133720"/>
            <a:ext cx="1584360" cy="2590560"/>
          </a:xfrm>
          <a:prstGeom prst="rect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72360" y="2133720"/>
            <a:ext cx="1584360" cy="2590560"/>
          </a:xfrm>
          <a:prstGeom prst="rect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80000" y="2133720"/>
            <a:ext cx="1584000" cy="2590560"/>
          </a:xfrm>
          <a:prstGeom prst="rect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4005360"/>
            <a:ext cx="1584360" cy="718920"/>
          </a:xfrm>
          <a:prstGeom prst="rect">
            <a:avLst/>
          </a:prstGeom>
          <a:solidFill>
            <a:srgbClr val="00b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Oprendszer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4005360"/>
            <a:ext cx="1584360" cy="718920"/>
          </a:xfrm>
          <a:prstGeom prst="rect">
            <a:avLst/>
          </a:prstGeom>
          <a:solidFill>
            <a:srgbClr val="00b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Oprendsz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80000" y="4005360"/>
            <a:ext cx="1584000" cy="718920"/>
          </a:xfrm>
          <a:prstGeom prst="rect">
            <a:avLst/>
          </a:prstGeom>
          <a:solidFill>
            <a:srgbClr val="00b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Oprendsz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71640" y="3429000"/>
            <a:ext cx="158436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zidens rés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72360" y="3429000"/>
            <a:ext cx="158436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zidens rés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3429000"/>
            <a:ext cx="158400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zidens rés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2781360"/>
            <a:ext cx="1584360" cy="647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mod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2997360"/>
            <a:ext cx="158400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mod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72360" y="2421000"/>
            <a:ext cx="1584360" cy="1008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mod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80000" y="5013360"/>
            <a:ext cx="1512720" cy="865080"/>
          </a:xfrm>
          <a:prstGeom prst="ca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80000" y="5300640"/>
            <a:ext cx="1512720" cy="865080"/>
          </a:xfrm>
          <a:prstGeom prst="ca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80000" y="5805360"/>
            <a:ext cx="1512720" cy="719280"/>
          </a:xfrm>
          <a:prstGeom prst="ca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43640" y="5013360"/>
            <a:ext cx="1513080" cy="865080"/>
          </a:xfrm>
          <a:prstGeom prst="ca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43640" y="5300640"/>
            <a:ext cx="1513080" cy="865080"/>
          </a:xfrm>
          <a:prstGeom prst="ca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43640" y="5805360"/>
            <a:ext cx="1513080" cy="719280"/>
          </a:xfrm>
          <a:prstGeom prst="can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Arial"/>
              </a:rPr>
              <a:t>Tárcsere (swapping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következő kihívás az amikor több felhasználó programjának a futtatását kell biztosítani, egymástól függetlenü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nden felhasználó kap egy időszeletet, majd ha az lejárt akkor az oprendszer az egész memória területet a háttértárra másolja és onnan betölti a következő felhasználóhoz tartozó memória tartal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z a swapping, a keletkező állományt cserefájlnak (swap file) nevezzü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processzor ütemezéshez hasonlóan itt sem mindegy mekkora az idősze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Állandó partíció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i történik akkor ha az éppen futó folyamat várakozni kényszerü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a állandóan több folyamat tartózkodhatna a memóriában, egyszerű lenne a dolog csak át kell kapcsolni a másik program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goldás osszuk fel a memóriát egymástól független részekre partíciók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kkora legyen ez a partíció, ha túl kicsi akkor nem biztos hogy belefér a program, ha túl nagy akkor sok kihasználatlan terület lehe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z a belső elaprózódásnak (internal fragment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omoly feladat hárul az oprendszerek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Döntést kell hoznia, hogy a futásra váró programok közül melyik kapjon meg egy felszabaduló partíció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CFS esetén fenn áll a veszélye annak, hogy kicsi program nagy partíciót foglal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08:12:37Z</dcterms:created>
  <dc:creator>Nagymáté Péter</dc:creator>
  <dc:description/>
  <dc:language>en-US</dc:language>
  <cp:lastModifiedBy>Nagymáté Péter</cp:lastModifiedBy>
  <dcterms:modified xsi:type="dcterms:W3CDTF">2004-04-29T10:26:35Z</dcterms:modified>
  <cp:revision>11</cp:revision>
  <dc:subject/>
  <dc:title>Operációs rendszerek</dc:title>
</cp:coreProperties>
</file>